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10F1-CE9C-4981-AC52-95067D817E1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l-GR" sz="800" spc="-1" strike="noStrike">
                <a:solidFill>
                  <a:srgbClr val="000000"/>
                </a:solidFill>
                <a:latin typeface="Arial"/>
              </a:rPr>
              <a:t>Μια τάση που εμφανίστηκε στα περισσότερα ενιαία κράτη μετά το 1945 (και ιδιαίτερα από τη δεκαετία του '70 και μετά) ήταν η θέσπιση και ανάπτυξη του μεσαίου</a:t>
            </a:r>
            <a:r>
              <a:rPr b="0" lang="en-US" sz="800" spc="-1" strike="noStrike">
                <a:solidFill>
                  <a:srgbClr val="000000"/>
                </a:solidFill>
                <a:latin typeface="Arial"/>
              </a:rPr>
              <a:t> </a:t>
            </a:r>
            <a:r>
              <a:rPr b="0" lang="el-GR" sz="800" spc="-1" strike="noStrike">
                <a:solidFill>
                  <a:srgbClr val="000000"/>
                </a:solidFill>
                <a:latin typeface="Arial"/>
              </a:rPr>
              <a:t>επιπέδου διακυβέρνησης - του περιφερειακού επιπέδου ανάμεσα στην κεντρική εξουσία και τις τοπικές αρχές. Ως αποτέλεσμα αυτής της τάσης, ενιαία κράτη, όπως</a:t>
            </a:r>
            <a:r>
              <a:rPr b="0" lang="en-US" sz="800" spc="-1" strike="noStrike">
                <a:solidFill>
                  <a:srgbClr val="000000"/>
                </a:solidFill>
                <a:latin typeface="Arial"/>
              </a:rPr>
              <a:t> </a:t>
            </a:r>
            <a:r>
              <a:rPr b="0" lang="el-GR" sz="800" spc="-1" strike="noStrike">
                <a:solidFill>
                  <a:srgbClr val="000000"/>
                </a:solidFill>
                <a:latin typeface="Arial"/>
              </a:rPr>
              <a:t>η Γαλλία, η Ιταλία και η Πολωνία, διαθέτουν τρεις βαθμούς υπο-εθνικής διακυβέρνησης: περιφερειακή, επαρχιακή και τοπική</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5501-5AB4-4D2D-8EAC-39836AAC505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873A-D287-4ED8-B6A2-4C59AE5CD95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ενδιάμεσο επίπεδο (mesolevel) είναι το μεσαίο, συνήθως περιφερειακό, επίπεδο διακυβέρνησης, που βρίσκεται ανάμεσα στην κεντρική κυβέρνηση και την τοπική αυτοδιοίκη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οπική αυτοδιοίκηση είναι ένας θεσμός που απαντάται τόσο στα ομοσπονδιακά όσο και στα ενιαία κράτη. Πρόκειται για το χαμηλότερο επίπεδο αιρετού κρατικού θεσμού, οργανωμένου σε γεωγραφική βάση.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οπική αυτοδιοίκηση, που ανάλογα με τη χώρα είναι οργανωμένη σε κοινότητες, δήμους ή ενορίες, είναι το σημείο «όπου υλοποιείται η καθημερινή δραστηριότητα της πολιτικής και της διακυβέρνησης» (Teune, 1995b, σ. 16). </a:t>
            </a:r>
            <a:endParaRPr b="0" lang="en-US" sz="1200" spc="-1" strike="noStrike">
              <a:solidFill>
                <a:srgbClr val="000000"/>
              </a:solidFill>
              <a:latin typeface="Arial"/>
            </a:endParaRPr>
          </a:p>
        </p:txBody>
      </p:sp>
      <p:sp>
        <p:nvSpPr>
          <p:cNvPr id="17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78FF-F558-4F5A-A9EF-355C5260BEE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αθεστώς που διέπει την τοπική αυτοδιοίκηση διαφέρει ανάλογα με τη χώρα (Πλαίσιο 14.5)</a:t>
            </a:r>
            <a:endParaRPr b="0" lang="en-US" sz="1200" spc="-1" strike="noStrike">
              <a:solidFill>
                <a:srgbClr val="000000"/>
              </a:solidFill>
              <a:latin typeface="Arial"/>
            </a:endParaRPr>
          </a:p>
        </p:txBody>
      </p:sp>
      <p:sp>
        <p:nvSpPr>
          <p:cNvPr id="18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394B-095A-423E-AFE4-D6C2480733B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γενική αρμοδιότητα (general competence) είναι η εξουσία μιας τοπικής αρχής να αποφασίζει για οποιοδήποτε ζήτημα αφορά τη γεωγραφική περιοχή που καλύπτει. Σε χώρες όπου δεν ισχύει η αρχή αυτή, οι τοπικές αρχές είναι επιφορτισμένες αποκλειστικά με τα καθήκοντα που τους έχει εκχωρήσει κάποια υψηλότερη αρχή.</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E710-A661-42BB-A306-36A07364CF5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άξη, υπάρχουν τρεις γενικοί τρόποι οργάνωσης της τοπικής αυτοδιοίκησης: το μοντέλο του συμβουλίου, το μοντέλο του δημάρχου συμβουλίου και το μοντέλο του συμβουλίου - μάνατζερ.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πρώτη και πιο παραδοσιακή μέθοδος, συγκεντρώνει την εξουσία σε ένα αιρετό δημοτικό συμβούλιο, που έχει την τυπική ευθύνη για την εποπτεία του έργου του φορέα.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ο μοντέλο του «δημάρχου – συμβουλίου» είναι περισσότερο προεδρικό παρά κοινοβουλευτικό. Βασίζεται στη διάκριση των εξουσιών ανάμεσα σε ένα δήμαρχο που εκλέγεται απευθείας από το λαό και έχει το ρόλο του επικεφαλής της εκτελεστικής εξουσίας, και σε ένα εκλεγμένο δημοτικό συμβούλιο που διαθέτει νομοθετικές εξουσίες και την εξουσία έγκρισης του προϋπολογισμού.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τρίτη δομή της τοπικής κυβέρνησης προέρχεται από τις Ηνωμένες Πολιτείες. Πρόκειται για το σύστημα του «συμβουλίου – μάνατζερ» (council-manager). Σε αντίθεση με τη δομή του δημάρχου - συμβουλίου, αυτή η διευθέτηση επιδιώκει την αποπολιτικοποίηση και απλοποίηση της τοπικής αυτοδιοίκησης μέσω του διαχωρισμού της πολιτικής από τη διοίκηση. Αυτή η διάκριση επιτυγχάνεται με το διορισμό ενός επαγγελματία μάνατζερ, ο οποίος λειτουργεί υπό το αιρετό συμβούλιο και το δήμαρχο, και είναι επιφορτισμένος με την καθημερινή διαχείριση των εργασιών του φορέα.</a:t>
            </a:r>
            <a:endParaRPr b="0" lang="en-US" sz="1200" spc="-1" strike="noStrike">
              <a:solidFill>
                <a:srgbClr val="000000"/>
              </a:solidFill>
              <a:latin typeface="Arial"/>
            </a:endParaRPr>
          </a:p>
        </p:txBody>
      </p:sp>
      <p:sp>
        <p:nvSpPr>
          <p:cNvPr id="18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46E3-272C-49A5-B5A7-2FF70F1A19F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Το διττό (dual) σύστημα της τοπικής αυτοδιοίκησης (π.χ. στη Βρετανία) σημαίνει ότι η κεντρική και η τοπική διοίκηση έχουν θεσμικά διακριτούς ρόλους και λειτουργίες. Παρότι το κέντρο είναι κυρίαρχο, οι τοπικές αρχές δεν ανήκουν σε κάποια αδιαίρετη κρατική δομή.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D4B9-96C5-4F30-AB29-2894744FE69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0" lang="el-GR" sz="800" spc="-1" strike="noStrike">
                <a:solidFill>
                  <a:srgbClr val="000000"/>
                </a:solidFill>
                <a:latin typeface="Arial"/>
              </a:rPr>
              <a:t>Στο ενιαίο σύστημα (π.χ. στη Γαλλία), οι δήμοι αποτελούν μέρος ενός ενιαίου διοικητικού συστήματος, που καλύπτει το σύνολο της επικράτειας.</a:t>
            </a:r>
            <a:endParaRPr b="0" lang="en-US" sz="800" spc="-1" strike="noStrike">
              <a:solidFill>
                <a:srgbClr val="000000"/>
              </a:solidFill>
              <a:latin typeface="Arial"/>
            </a:endParaRPr>
          </a:p>
        </p:txBody>
      </p:sp>
      <p:sp>
        <p:nvSpPr>
          <p:cNvPr id="19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05E2-8436-409D-B6B2-9ABA6FB2858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 νομάρχης (prefect) είναι αξιωματούχος που διορίζεται από την κεντρική κυβέρνηση για να επιβλέπει τη διοίκηση συγκεκριμένης περιοχής. Το νομαρχιακό σύστημα δημιουργήθηκε αρχικά με σκοπό την προαγωγή της ενιαίας εφαρμογής των εθνικών πολιτικών και τη διασφάλιση της αφοσίωσης των περιφερειών στο κέντρο.</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ECFC-3B70-4286-B041-1B31EE74175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α απολυταρχικά καθεστώτα, η διάκριση ανάμεσα στην τοπική αυτοδιοίκηση και την τοπική εξουσία έχει κεφαλαιώδη σημασία. Η πρώτη είναι αδύναμη: η εξουσία διαχέεται από τα ανώτερα κλιμάκια προς τα κάτω, με αποτέλεσμα οι θεσμοί αντιπροσώπευσης του λαού να έχουν θέση υποτελού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Ελάχιστα στοιχεία του πλουραλιστικού τύπου λήψης των αποφάσεων, που συνδέεται με την έννοια της πολυεπίπεδης διακυβέρνησης, συναντάμε στα καθεστώτα αυτά, εξ ου και είναι πιο ακριβής ο όρος σχέσεις κέντρου - περιφέρεια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εθνικοί ηγέτες -όπως ακριβώς και οι μονάρχες κατά το Μεσαίωνα- συνήθως εξαρτώνται από ισχυρούς τοπικούς παράγοντες για να διαφυλάξουν τη δική τους επισφαλή ενίοτε εξουσία. Ως εκ τούτου, οι σχέσεις του κέντρου με την περιφέρεια έχουν συνήθως προσωπικό χαρακτήρα και δεν εμφανίζουν τις παγιωμένες δομές των εδραιωμένων δημοκρατιώ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ηγέτες σε κεντρικό και τοπικό επίπεδο συνδέονται μέσω πελατειακών σχέσεων: ο εθνικός ηγέτης εξαγοράζει ουσιαστικά την υποστήριξη των τοπικών αφεντικών, τα οποία, με τη σειρά τους, κατοχυρώνουν την εξουσία τους μέσω της επιλεκτικής παροχής οικονομικών και άλλων μέσων στους υποστηρικτές τους. Η πατρωνία είναι αυτή που συνδέει το κέντρο με την περιφέρεια, και όχι οι θεσμοί.</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EC07-57A7-4B48-BA5C-B793742A5F1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EB98-C18E-49D1-BE63-F6B62B23794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ολυεπίπεδη διακυβέρνηση (multilevel governance) εφαρμόζει τις ιδέες του πλουραλισμού και των δικτύων πολιτικής στις σχέσεις ανάμεσα στα διαφορετικά επίπεδα της κυβέρνησης. Προκύπτει όταν στελέχη διαφορετικών επιπέδων της κυβέρνησης μοιράζονται το καθήκον της διαμόρφωσης ρυθμιστικών κανόνων και χάραξης της πολιτικής, συνήθως σε συνεργασία με τις αντίστοιχες ομάδες συμφερόντω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χρησιμοποιείται ευρέως στην Ευρωπαϊκή Ένωση, η ύπαρξη της οποίας προσθέτει ένα επιπλέον υπερεθνικό επίπεδο διακυβέρνησης, το οποίο συμπληρώνει και ενισχύει τα υφιστάμενα δίκτυα στο εσωτερικό των κρατών-μελ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ις ανελεύθερες δημοκρατίες, ο θεσμός του υποεθνικού επιπέδου διοίκησης προσπαθεί να ριζώσει σε άγονο έδαφος. Η προσωπική σχέση του ηγέτη με το λαό οδηγεί στην περιστασιακή και ανοργάνωτη εμπλοκή του προέδρου στις τοπικές υποθέσεις: έχουμε ένα συνδυασμό αδιαφορίας και περιοδικών παρεμβάσεων. Τον πρώτο λόγο έχει το κέντρ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ε πολλές άλλες περιπτώσεις, το καθεστώς της ανελεύθερης δημοκρατίας λειτουργεί σε φτωχές χώρες. Εκεί, οι τοπικές και περιφερειακές μονάδες των απομονωμένων επαρχιών πολύ απλά δεν διαθέτουν τους πόρους για να παρέχουν αποτελεσματική διακυβέρνηση. Όπως και σε πολλά απολυταρχικά καθεστώτα, συχνά είναι οι ισχυροί γαιοκτήμονες και οι επιχειρηματίες αυτοί που κινούν τα νήματα στις τοπικές κοινωνίες, όχι σπάνια με τη ρητή ή άρρητη υποστήριξη της ελίτ που βρίσκεται στο κέντρο. Όπως και στα απολυταρχικά καθεστώτα, οι δεσμοί ανάμεσα στο κέντρο και την περιφέρεια -συνεπώς και ανάμεσα στην πρωτεύουσα και την επαρχία- λειτουργούν σε προσωπικό επίπεδο.</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C908-2365-45B2-84DC-6F553A15BC8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08C4-4E04-4255-9AA6-9F7A56FBFFC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πολυεπίπεδη διακυβέρνηση» χρησιμοποιείται για να περιγραφεί η διαδικασία κατά την οποία τα διάφορα κέντρα λήψης αποφάσεων και οι ομάδες συμφερόντων στις φιλελεύθερες δημοκρατίες συζητούν, πείθουν και διαπραγματεύονται σε όλα τα επίπεδα, προκειμένου να διαμορφώσουν συγκροτημένη πολιτική στον τομέα της δραστηριότητάς τους, όπως οι μεταφορές και η εκπαίδευση. Σε χώρες με πολυεπίπεδη διακυβέρνηση, τα στελέχη, λόγου χάρη, του Υπουργείου Παιδείας αφιερώνουν περισσότερο χρόνο σε κάθετες σχέσεις, συνομιλώντας με εκπροσώπους διαφορετικών επιπέδων στο εσωτερικό του ίδιου τομέα, παρά στον οριζόντιο συντονισμό, δηλαδή σε επαφές με άτομα του ίδιου επιπέδου, που εργάζονται σε διαφορετικό τομέα πολιτικής.</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103C-FECC-416C-B452-540A537BC79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Φεντεραλισμός (federalism) (από το λατινικό foedus, που σημαίνει συνθήκη) είναι η αρχή του διαμοιρασμού της κυριαρχίας ανάμεσα στην κεντρική κυβέρνηση και τις πολιτείες (ή περιφέρειε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μοσπονδιακό (federation) είναι κάθε πολιτικό σύστημα που θέτει σε εφαρμογή αυτή την αρχή.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ομοσπονδία (confederation) είναι χαλαρότερη ένωση ανάμεσα στα συστατικά κράτη, τα οποία διατηρούν την ανεξάρτητη κρατική τους οντότη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AB78-0A28-4BCB-9A6E-55F0DEE063D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διττός φεντεραλισμός (dual federalism), ιδέα που διατυπώθηκε για πρώτη φορά στις Ηνωμένες Πολιτείες, υποδηλώνει ότι η εθνική και οι πολιτειακές κυβερνήσεις έχουν ανεξάρτητες σφαίρες δράσης. Το κάθε επίπεδο επιτελεί ανεξάρτητα τις λειτουργίες που του ανατίθενται από το σύνταγμ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49C3-7A76-426B-BDEA-632E1BE4B8A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συνεργατικός φεντεραλισμός (cooperative federalism), που εφαρμόζεται λ.χ. στη Γερμανία, εδράζεται στη συνεργασία ανάμεσα στα κυβερνητικά επίπεδα. Η εθνική και οι πολιτειακές κυβερνήσεις οφείλουν να λειτουργούν ως εταίροι κατά την επιδίωξη των συλλογικών στόχων του κρά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C234-5E6D-4B63-9CAE-3748704FD30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ύμφωνα με την αρχή της επικουρικότητας (subsidiarity), καμία λειτουργία δεν πρέπει να εκτελείται από μεγαλύτερο και πιο περίπλοκο θεσμό, εάν μπορεί να εκτελεστεί εξίσου καλά από κάποιο μικρότερο, απλούστερο φορέα. Η αρχή αυτή έχει τις ρίζες της στην κοινωνική σκέψη της Καθολικής Εκκλησίας, όπου χρησιμοποιήθηκε για την υπεράσπιση του ρόλου της εκκλησίας και των εθελοντικών οργανώσεων απέναντι στην απειλή του κοινωνικού κρά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3373-F1D1-41EA-B21E-E398BFD27C3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βαθμό που η ΕΕ είναι μια ένωση προηγουμένως κυρίαρχων κρατών, η οποία δημιουργήθηκε βάσει συνθηκών που προβλέπουν την ύπαρξη υπερεθνικών θεσμών, οι οποίοι, όμως, δεν διαθέτουν το εύρος των εξουσιών των αντίστοιχων θεσμών στα ομοσπονδιακά συστήματα, μπορεί η ΕΕ να θεωρηθεί συνομοσπονδ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5B33-E919-4F35-9F3B-5C816FADB71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ερισσότερα κράτη είναι ενιαία, υπό την έννοια ότι η κυριαρχία ανήκει αποκλειστικά στην κεντρική κυβέρνηση. Σε αυτή την ιεραρχική δομή, η εθνική</a:t>
            </a:r>
            <a:r>
              <a:rPr b="0" lang="en-US" sz="1200" spc="-1" strike="noStrike">
                <a:solidFill>
                  <a:srgbClr val="000000"/>
                </a:solidFill>
                <a:latin typeface="Arial"/>
              </a:rPr>
              <a:t> </a:t>
            </a:r>
            <a:r>
              <a:rPr b="0" lang="el-GR" sz="1200" spc="-1" strike="noStrike">
                <a:solidFill>
                  <a:srgbClr val="000000"/>
                </a:solidFill>
                <a:latin typeface="Arial"/>
              </a:rPr>
              <a:t>κυβέρνηση έχει θεωρητικά το δικαίωμα να καταργεί τα χαμηλότερα από αυτήν επίπεδ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ούμε να διακρίνουμε τρεις βασικούς τρόπους με τους οποίους τα ενιαία κράτη μπορούν να παραχωρήσουν εξουσίες προς τα χαμηλότερα επίπεδα: την</a:t>
            </a:r>
            <a:r>
              <a:rPr b="0" lang="en-US" sz="1200" spc="-1" strike="noStrike">
                <a:solidFill>
                  <a:srgbClr val="000000"/>
                </a:solidFill>
                <a:latin typeface="Arial"/>
              </a:rPr>
              <a:t> </a:t>
            </a:r>
            <a:r>
              <a:rPr b="0" lang="el-GR" sz="1200" spc="-1" strike="noStrike">
                <a:solidFill>
                  <a:srgbClr val="000000"/>
                </a:solidFill>
                <a:latin typeface="Arial"/>
              </a:rPr>
              <a:t>αποσυγκέντρωση, την αποκέντρωση και την εκχώρηση εξουσιών</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ώτη μέθοδος, αυτή της αποσυγκέντρωσης (deconcentration), έχει</a:t>
            </a:r>
            <a:r>
              <a:rPr b="0" lang="en-US" sz="1200" spc="-1" strike="noStrike">
                <a:solidFill>
                  <a:srgbClr val="000000"/>
                </a:solidFill>
                <a:latin typeface="Arial"/>
              </a:rPr>
              <a:t> </a:t>
            </a:r>
            <a:r>
              <a:rPr b="0" lang="el-GR" sz="1200" spc="-1" strike="noStrike">
                <a:solidFill>
                  <a:srgbClr val="000000"/>
                </a:solidFill>
                <a:latin typeface="Arial"/>
              </a:rPr>
              <a:t>αμιγώς διοικητικό χαρακτήρα και συνίσταται στην τοποθέτηση μεγάλου μέρους του προσωπικού της κεντρικής κυβέρνησης σε περιοχές εκτός της πρωτεύουσα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δεύτερος τρόπος διαμοιρασμού της εξουσίας, που έχει και μεγαλύτερη πολιτική βαρύτητα, είναι η αποκέντρωση (decentralization). Εδώ η υλοποίηση των</a:t>
            </a:r>
            <a:r>
              <a:rPr b="0" lang="en-US" sz="1200" spc="-1" strike="noStrike">
                <a:solidFill>
                  <a:srgbClr val="000000"/>
                </a:solidFill>
                <a:latin typeface="Arial"/>
              </a:rPr>
              <a:t> </a:t>
            </a:r>
            <a:r>
              <a:rPr b="0" lang="el-GR" sz="1200" spc="-1" strike="noStrike">
                <a:solidFill>
                  <a:srgbClr val="000000"/>
                </a:solidFill>
                <a:latin typeface="Arial"/>
              </a:rPr>
              <a:t>πολιτικών ανατίθεται σε περιφερειακούς φορείς και θεσμούς, όπως η τοπική αυτοδιοίκηση.</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ρίτη και πιο ρηξικέλευθη μορφή διαμοιρασμού των εξουσιών είναι η εκχώρηση (devolution). Εκχώρηση έχουμε όταν το κέντρο χορηγεί αυτονομία λήψης</a:t>
            </a:r>
            <a:r>
              <a:rPr b="0" lang="en-US" sz="1200" spc="-1" strike="noStrike">
                <a:solidFill>
                  <a:srgbClr val="000000"/>
                </a:solidFill>
                <a:latin typeface="Arial"/>
              </a:rPr>
              <a:t> </a:t>
            </a:r>
            <a:r>
              <a:rPr b="0" lang="el-GR" sz="1200" spc="-1" strike="noStrike">
                <a:solidFill>
                  <a:srgbClr val="000000"/>
                </a:solidFill>
                <a:latin typeface="Arial"/>
              </a:rPr>
              <a:t>αποφάσεων (καθώς και ορισμένες νομοθετικές εξουσίες) στα χαμηλότερα επίπεδα.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EA42F-D3ED-41C2-BCB1-0175356C4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4997A-3B47-4CEB-A6BE-8FCEE0212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7C61D-7911-4B72-85B6-EFF78C8DE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D8BB7-82D8-48E0-AFC0-16015D17C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53BDB-36F4-4A22-BECF-DFDC1F043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F5A2F-7DCA-455D-A9D9-F694285F7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004CE-6F6F-46EA-9EA5-D74043992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09165-F37D-47AE-B745-BBE9F68B6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6EADA-4EA2-4AFC-832B-F09D6C29C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6D392-D700-4C9A-BE96-97A6EA42B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10AF9-7F82-4CE1-A855-60698A74F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AD397-353B-4D31-AE23-4707788D2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A0772-D494-410B-A551-F148F5326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05DAD-46CE-479E-9436-8657FB90F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7A377-319D-4127-89C3-2E0280483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D9ABA-D504-49EA-BBDF-5588A6417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0BDDA-C4F5-42C4-85B9-728C7827D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AA96D-A907-4E1F-96F9-9F1584793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04DCA-DB14-4D16-BA38-2AD9D665F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A0C09-36C8-47DD-9AEC-D2EDB40E9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617EE-5C4A-43F9-97A0-DD61F110F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532EA-98A7-45B0-B067-D62774009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B3204-2E17-455C-918D-F0E8369D1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B166D-ACB3-4F3F-975C-0948790A9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D6C1-232E-471A-901B-D34FDEE4A5D7}"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1D6B-34FF-4A81-87BF-8027C2DED473}"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4</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υεπίπεδη διακυβέρνησ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εριφερειακή διακυβέρνηση</a:t>
            </a:r>
            <a:endParaRPr b="0" lang="en-US" sz="4200" spc="-1" strike="noStrike">
              <a:solidFill>
                <a:srgbClr val="660033"/>
              </a:solidFill>
              <a:latin typeface="Times New Roman"/>
            </a:endParaRPr>
          </a:p>
        </p:txBody>
      </p:sp>
      <p:pic>
        <p:nvPicPr>
          <p:cNvPr id="123" name="Picture 2" descr=""/>
          <p:cNvPicPr/>
          <p:nvPr/>
        </p:nvPicPr>
        <p:blipFill>
          <a:blip r:embed="rId1"/>
          <a:srcRect l="3721" t="0" r="0" b="0"/>
          <a:stretch/>
        </p:blipFill>
        <p:spPr>
          <a:xfrm>
            <a:off x="1219320" y="1752480"/>
            <a:ext cx="7086600" cy="292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εριφερειακή διακυβέρνηση</a:t>
            </a:r>
            <a:endParaRPr b="0" lang="en-US" sz="42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ενδιάμεσο επίπεδο (mesolevel) είναι το μεσαίο, συνήθως περιφερειακό, επίπεδο διακυβέρνησης, που βρίσκεται ανάμεσα στην κεντρική κυβέρνηση και την τοπική αυτοδιοίκησ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τοπική αυτοδιοίκηση είναι ένας θεσμός που απαντάται τόσο στα ομοσπονδιακά όσο και στα ενιαία κράτη. Πρόκειται για το χαμηλότερο επίπεδο αιρετού κρατικού θεσμού, οργανωμένου σε γεωγραφική βάση.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pic>
        <p:nvPicPr>
          <p:cNvPr id="129" name="Picture 2" descr=""/>
          <p:cNvPicPr/>
          <p:nvPr/>
        </p:nvPicPr>
        <p:blipFill>
          <a:blip r:embed="rId1"/>
          <a:srcRect l="0" t="0" r="1285" b="0"/>
          <a:stretch/>
        </p:blipFill>
        <p:spPr>
          <a:xfrm>
            <a:off x="2219400" y="1600200"/>
            <a:ext cx="5263920" cy="468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sp>
        <p:nvSpPr>
          <p:cNvPr id="13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γενική αρμοδιότητα (general competence) είναι η εξουσία μιας τοπικής αρχής να αποφασίζει για οποιοδήποτε ζήτημα αφορά τη γεωγραφική περιοχή που καλύπτει.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sp>
        <p:nvSpPr>
          <p:cNvPr id="13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ομές τοπικής αυτοδιοίκησης:</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υμβούλι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ήμαρχος – συμβούλιο </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υμβούλιο – μάνατζερ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sp>
        <p:nvSpPr>
          <p:cNvPr id="135"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διττό (dual) σύστημα της τοπικής αυτοδιοίκησης (π.χ. στη Βρετανία) σημαίνει ότι η κεντρική και η τοπική διοίκηση έχουν θεσμικά διακριτούς ρόλους και λειτουργίες. Παρότι το κέντρο είναι κυρίαρχο, οι τοπικές αρχές δεν ανήκουν σε κάποια αδιαίρετη κρατική δομ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sp>
        <p:nvSpPr>
          <p:cNvPr id="13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ο ενιαίο σύστημα (π.χ. στη Γαλλία), οι δήμοι αποτελούν μέρος ενός ενιαίου διοικητικού συστήματος, που καλύπτει το σύνολο της επικράτει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πική αυτοδιοίκηση</a:t>
            </a:r>
            <a:endParaRPr b="0" lang="en-US" sz="4200" spc="-1" strike="noStrike">
              <a:solidFill>
                <a:srgbClr val="660033"/>
              </a:solidFill>
              <a:latin typeface="Times New Roman"/>
            </a:endParaRPr>
          </a:p>
        </p:txBody>
      </p:sp>
      <p:sp>
        <p:nvSpPr>
          <p:cNvPr id="13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νομάρχης (prefect) είναι αξιωματούχος που διορίζεται από την κεντρική κυβέρνηση για να επιβλέπει τη διοίκηση συγκεκριμένης περιοχή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Σχέσεις κέντρου – περιφέρειας </a:t>
            </a:r>
            <a:br>
              <a:rPr sz="4000"/>
            </a:br>
            <a:r>
              <a:rPr b="0" lang="el-GR" sz="4000" spc="-1" strike="noStrike">
                <a:solidFill>
                  <a:srgbClr val="660033"/>
                </a:solidFill>
                <a:latin typeface="Times New Roman"/>
              </a:rPr>
              <a:t>στα απολυταρχικά κράτη</a:t>
            </a:r>
            <a:endParaRPr b="0" lang="en-US" sz="4000" spc="-1" strike="noStrike">
              <a:solidFill>
                <a:srgbClr val="660033"/>
              </a:solidFill>
              <a:latin typeface="Times New Roman"/>
            </a:endParaRPr>
          </a:p>
        </p:txBody>
      </p:sp>
      <p:sp>
        <p:nvSpPr>
          <p:cNvPr id="14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δύναμη τοπική αυτοδιοίκηση, έλεγχος από την κεντρική εξουσί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ωπικός χαρακτήρας σχέσεων κέντρου – περιφέρειας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λατειακές σχέσεις ηγετών σε κεντρικό και τοπικό επίπεδο</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τρωνί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ισαγωγή στην πολυεπίπεδη διακυβέρνηση</a:t>
            </a:r>
            <a:endParaRPr b="0" lang="en-US" sz="38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πολυεπίπεδη διακυβέρνηση (multilevel governance) εφαρμόζει τις ιδέες του πλουραλισμού και των δικτύων πολιτικής στις σχέσεις ανάμεσα στα διαφορετικά επίπεδα της κυβέρνησης. Προκύπτει όταν στελέχη διαφορετικών επιπέδων της κυβέρνησης μοιράζονται το καθήκον της διαμόρφωσης ρυθμιστικών κανόνων και χάραξης της πολιτικής, συνήθως σε συνεργασία με τις αντίστοιχες ομάδες συμφερόντων. </a:t>
            </a:r>
            <a:endParaRPr b="0" lang="en-US" sz="2600" spc="-1" strike="noStrike">
              <a:solidFill>
                <a:srgbClr val="000000"/>
              </a:solidFill>
              <a:latin typeface="Arial"/>
            </a:endParaRPr>
          </a:p>
          <a:p>
            <a:pPr marL="34308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Hooghe και Marks, 2001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660033"/>
                </a:solidFill>
                <a:latin typeface="Times New Roman"/>
              </a:rPr>
              <a:t>Σχέσεις κέντρου – περιφέρειας </a:t>
            </a:r>
            <a:br>
              <a:rPr sz="4000"/>
            </a:br>
            <a:r>
              <a:rPr b="0" lang="el-GR" sz="4000" spc="-1" strike="noStrike">
                <a:solidFill>
                  <a:srgbClr val="660033"/>
                </a:solidFill>
                <a:latin typeface="Times New Roman"/>
              </a:rPr>
              <a:t>στις ανελεύθερες δημοκρατίες</a:t>
            </a:r>
            <a:endParaRPr b="0" lang="en-US" sz="4000" spc="-1" strike="noStrike">
              <a:solidFill>
                <a:srgbClr val="660033"/>
              </a:solidFill>
              <a:latin typeface="Times New Roman"/>
            </a:endParaRPr>
          </a:p>
        </p:txBody>
      </p:sp>
      <p:sp>
        <p:nvSpPr>
          <p:cNvPr id="14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στασιακή και ανοργάνωτη εμπλοκή του προέδρου στις τοπικές υποθέσει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λλειψη πόρων για αποτελεσματική διακυβέρνηση</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Προσωπικός χαρακτήρας δεσμών κέντρου – περιφέρεια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ισαγωγή στην πολυεπίπεδη διακυβέρνηση</a:t>
            </a:r>
            <a:endParaRPr b="0" lang="en-US" sz="3800" spc="-1" strike="noStrike">
              <a:solidFill>
                <a:srgbClr val="660033"/>
              </a:solidFill>
              <a:latin typeface="Times New Roman"/>
            </a:endParaRPr>
          </a:p>
        </p:txBody>
      </p:sp>
      <p:pic>
        <p:nvPicPr>
          <p:cNvPr id="109" name="Picture 4" descr="C:\Users\EPIMELEIA\Dropbox\Kritiki-Book-Proofing\14-sigritiki-politiki-hague\images\Hag_Fig_14_01.png"/>
          <p:cNvPicPr/>
          <p:nvPr/>
        </p:nvPicPr>
        <p:blipFill>
          <a:blip r:embed="rId1"/>
          <a:stretch/>
        </p:blipFill>
        <p:spPr>
          <a:xfrm>
            <a:off x="1727280" y="1905120"/>
            <a:ext cx="5892840" cy="403200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Φεντεραλισμός</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εντεραλισμός (federalism) (από το λατινικό foedus, που σημαίνει συνθήκη) είναι η αρχή του διαμοιρασμού της κυριαρχίας ανάμεσα στην κεντρική κυβέρνηση και τις πολιτείες (ή περιφέρει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Φεντεραλισμός</a:t>
            </a:r>
            <a:endParaRPr b="0" lang="en-US" sz="42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διττός φεντεραλισμός (dual federalism), ιδέα που διατυπώθηκε για πρώτη φορά στις Ηνωμένες Πολιτείες, υποδηλώνει ότι η εθνική και οι πολιτειακές κυβερνήσεις έχουν ανεξάρτητες σφαίρες δράσης. Το κάθε επίπεδο επιτελεί ανεξάρτητα τις λειτουργίες που του ανατίθενται από το σύνταγμ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Φεντεραλισμός</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συνεργατικός φεντεραλισμός (cooperative federalism), που εφαρμόζεται λ.χ. στη Γερμανία, εδράζεται στη συνεργασία ανάμεσα στα κυβερνητικά επίπεδα. Η εθνική και οι πολιτειακές κυβερνήσεις οφείλουν να λειτουργούν ως εταίροι κατά την επιδίωξη των συλλογικών στόχων του κράτου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Φεντεραλισμός </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μφωνα με την αρχή της επικουρικότητας (subsidiarity), καμία λειτουργία δεν πρέπει να εκτελείται από μεγαλύτερο και πιο περίπλοκο θεσμό, εάν μπορεί να εκτελεστεί εξίσου καλά από κάποιο μικρότερο, απλούστερο φορέ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υρωπαϊκή Ένωση: μια μοναδική περίπτωση </a:t>
            </a:r>
            <a:endParaRPr b="0" lang="en-US" sz="38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ο βαθμό που η ΕΕ είναι μια ένωση προηγουμένως κυρίαρχων κρατών, η οποία δημιουργήθηκε βάσει συνθηκών που προβλέπουν την ύπαρξη υπερεθνικών θεσμών, οι οποίοι, όμως, δεν διαθέτουν το εύρος των εξουσιών των αντίστοιχων θεσμών στα ομοσπονδιακά συστήματα, μπορεί η ΕΕ να θεωρηθεί συνομοσπονδία.</a:t>
            </a:r>
            <a:endParaRPr b="0" lang="en-US" sz="2800" spc="-1" strike="noStrike">
              <a:solidFill>
                <a:srgbClr val="000000"/>
              </a:solidFill>
              <a:latin typeface="Arial"/>
            </a:endParaRPr>
          </a:p>
          <a:p>
            <a:pPr lvl="1" marL="743040"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gent, 200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νιαία διακυβέρνηση</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θοδοι εκχώρησης εξουσιών από το κέντρο προς την περιφέρεια</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συγκέντρωση (</a:t>
            </a:r>
            <a:r>
              <a:rPr b="0" lang="en-US" sz="2600" spc="-1" strike="noStrike">
                <a:solidFill>
                  <a:srgbClr val="000000"/>
                </a:solidFill>
                <a:latin typeface="Arial"/>
              </a:rPr>
              <a:t>deconcentration)</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κέντρωση</a:t>
            </a:r>
            <a:r>
              <a:rPr b="0" lang="en-US" sz="2600" spc="-1" strike="noStrike">
                <a:solidFill>
                  <a:srgbClr val="000000"/>
                </a:solidFill>
                <a:latin typeface="Arial"/>
              </a:rPr>
              <a:t> (decetralization)</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κχώρηση εξουσιών</a:t>
            </a:r>
            <a:r>
              <a:rPr b="0" lang="en-US" sz="2600" spc="-1" strike="noStrike">
                <a:solidFill>
                  <a:srgbClr val="000000"/>
                </a:solidFill>
                <a:latin typeface="Arial"/>
              </a:rPr>
              <a:t> (devolu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06:47:33Z</dcterms:created>
  <dc:creator>pc</dc:creator>
  <dc:description/>
  <dc:language>en-US</dc:language>
  <cp:lastModifiedBy>EPIMELEIA</cp:lastModifiedBy>
  <dcterms:modified xsi:type="dcterms:W3CDTF">2013-09-23T09:48:45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